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6F7-8455-4B44-B42A-4AAE69AE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DCA-DE68-4FF2-90C0-024F8351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C7F-F8AE-45A3-9B17-F739F5D9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4E6-4B4D-4796-97C1-AD1130E3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143-F881-4DF5-A283-5083B48A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E14-AFC5-4809-A713-1BE0006C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AB9-329C-4EB6-A369-2A6516F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4E9-E0A8-4348-A766-99579AD2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C44-0DE9-4A49-B5E5-0730BFBA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A55-C6B1-4FE3-8B14-36AC6FD0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9AC-6DF3-4A62-850B-2E613BEC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3B9-E270-40A5-B950-FCC0A6E7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DEA7-FEDC-460E-AA01-0B34AB014B8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ark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MONTE CAST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LEGIÃO URB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Nickelback - Photograph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amor-beijo-homem-e-mulher-no-ceu-reflexo-planeta-estrelas-lindoooooo-fundo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0" y="260280"/>
            <a:ext cx="49068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 amor eu nada seri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imagem_gimp_mudar_cor00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 u="sng">
                <a:solidFill>
                  <a:srgbClr val="000000"/>
                </a:solidFill>
                <a:uFillTx/>
                <a:latin typeface="Arial"/>
              </a:rPr>
              <a:t>RIVELAINE MILITÃO OTTERSBA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2" descr="anj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3529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 amor eu nada s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9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2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7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9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2915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só o amor! É só o amor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conhece o que é verdade.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mor é bom, não quer o mal,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nte inveja ou se envaide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9103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amor é o fogo que arde sem se ver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ferida que dói e não se sente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um contentamento descontente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dor que desatina sem do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labio"/>
          <p:cNvPicPr/>
          <p:nvPr/>
        </p:nvPicPr>
        <p:blipFill>
          <a:blip r:embed="rId1"/>
          <a:stretch/>
        </p:blipFill>
        <p:spPr>
          <a:xfrm>
            <a:off x="0" y="0"/>
            <a:ext cx="9240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Ainda que eu falasse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A língua dos homens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E falasse a língua dos anjos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Sem amor eu nada se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Nickelback - Photograph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3475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solid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um não querer mais que bem querer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solitário andar por entre a gente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um não contentar-se de contente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cuidar que se ganha em se per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3705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"/>
              </a:rPr>
              <a:t>É um estar-se preso por vontade;</a:t>
            </a:r>
            <a:br>
              <a:rPr sz="4400"/>
            </a:br>
            <a:r>
              <a:rPr b="0" lang="pt-BR" sz="4400" spc="-1" strike="noStrike">
                <a:solidFill>
                  <a:srgbClr val="808080"/>
                </a:solidFill>
                <a:latin typeface="Arial"/>
              </a:rPr>
              <a:t>É servir a quem vence, o vencedor;</a:t>
            </a:r>
            <a:br>
              <a:rPr sz="4400"/>
            </a:br>
            <a:r>
              <a:rPr b="0" lang="pt-BR" sz="4400" spc="-1" strike="noStrike">
                <a:solidFill>
                  <a:srgbClr val="808080"/>
                </a:solidFill>
                <a:latin typeface="Arial"/>
              </a:rPr>
              <a:t>É um ter com quem nos mata a lealdade.</a:t>
            </a:r>
            <a:br>
              <a:rPr sz="4400"/>
            </a:br>
            <a:r>
              <a:rPr b="0" lang="pt-BR" sz="4400" spc="-1" strike="noStrike">
                <a:solidFill>
                  <a:srgbClr val="808080"/>
                </a:solidFill>
                <a:latin typeface="Arial"/>
              </a:rPr>
              <a:t>Tão contrário a si é o mesmo am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B289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tou acordado e todos dormem.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odos dormem. Todos dormem.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gora vejo em parte,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s então veremos face a f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orkut-hi5-coracao_(8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É só o amor! É só o amor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Que conhece o que é verd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28:29Z</dcterms:created>
  <dc:creator>SEDMS</dc:creator>
  <dc:description/>
  <dc:language>en-US</dc:language>
  <cp:lastModifiedBy>ACER</cp:lastModifiedBy>
  <dcterms:modified xsi:type="dcterms:W3CDTF">2010-10-19T22:04:07Z</dcterms:modified>
  <cp:revision>4</cp:revision>
  <dc:subject/>
  <dc:title>MONTE CASTELO</dc:title>
</cp:coreProperties>
</file>